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80D-12F4-4C8A-9376-6E2C8E5E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BE4-EE8C-484E-BF66-C6AE9466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3F9-38C8-495C-9177-EBCDDDD4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F12-ABF9-4B8D-B7E1-867CC967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059C0-25A7-4630-B5FB-EB56C0F8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FE2A1-0BC3-4746-A546-0601E5E4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190E4-DC10-43FA-941F-FCDA053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2504-DD13-45F6-B02E-03B3FBF7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3A4FF-11D0-45FA-B6F9-1442D027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2C13F-4A66-4471-9C54-E0191C6E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6EB68-C736-4C16-AA0E-48EDFA1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1D5-610A-4B75-8DA8-AB8B8DE7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DC533-BBC7-482C-9290-AE26C64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9B2CC-354E-455B-9B31-9D8658B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953E8-BD0A-40AB-A151-88019789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9CDE-8BA4-493F-B0F8-A106706F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95602-9191-4C98-A8AE-3F392609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131-F822-457D-8408-6C271AAD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DF1-C168-4B69-A012-5B3DAE48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72C-FDBC-4C23-AB46-1EF89F5B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1AC-0D88-4A23-B2D3-C4CD6F26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ECD-A9D9-4DB6-8E3C-5FC1D08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656-4915-40A0-B90A-B19DFA5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5EE-301E-479A-88AE-6CAB6C6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4DFF-B5D8-433C-AEB9-34A694AA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0338-E61C-438E-827C-96A98AADD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781840" cy="6630840"/>
          </a:xfrm>
          <a:prstGeom prst="rect">
            <a:avLst/>
          </a:prstGeom>
          <a:solidFill>
            <a:srgbClr val="7030a0"/>
          </a:solidFill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Organa genitalia masculina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organa genitalia masculina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externa 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organa genitalia masculina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inter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2"/>
          <a:srcRect l="8268" t="0" r="39863" b="37746"/>
          <a:stretch/>
        </p:blipFill>
        <p:spPr>
          <a:xfrm>
            <a:off x="0" y="0"/>
            <a:ext cx="75531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rcRect l="7788" t="0" r="40822" b="38588"/>
          <a:stretch/>
        </p:blipFill>
        <p:spPr>
          <a:xfrm>
            <a:off x="179280" y="147600"/>
            <a:ext cx="74818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ahoma"/>
              </a:rPr>
              <a:t>Scrotu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Graphic14"/>
          <p:cNvPicPr/>
          <p:nvPr/>
        </p:nvPicPr>
        <p:blipFill>
          <a:blip r:embed="rId2"/>
          <a:stretch/>
        </p:blipFill>
        <p:spPr>
          <a:xfrm>
            <a:off x="1187280" y="1052640"/>
            <a:ext cx="55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638920" cy="6487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gana genitalia masculin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intern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Testis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/orchis/ (</a:t>
            </a:r>
            <a:r>
              <a:rPr b="0" lang="sr-CS" sz="3200" spc="-1" strike="noStrike">
                <a:solidFill>
                  <a:srgbClr val="ffffff"/>
                </a:solidFill>
                <a:latin typeface="YUBaskerville"/>
              </a:rPr>
              <a:t>семник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acies medi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acies late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argo ant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xtremitas inf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xtremitas superi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pididymis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argo post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descensus tes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gubernaculum tes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rocesus vaginalis peritonei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uniculus spermaticu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vestigium processus vagina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Graphic13"/>
          <p:cNvPicPr/>
          <p:nvPr/>
        </p:nvPicPr>
        <p:blipFill>
          <a:blip r:embed="rId2"/>
          <a:srcRect l="0" t="0" r="0" b="3909"/>
          <a:stretch/>
        </p:blipFill>
        <p:spPr>
          <a:xfrm>
            <a:off x="324000" y="189000"/>
            <a:ext cx="7262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Graphic14"/>
          <p:cNvPicPr/>
          <p:nvPr/>
        </p:nvPicPr>
        <p:blipFill>
          <a:blip r:embed="rId2"/>
          <a:srcRect l="0" t="0" r="0" b="967"/>
          <a:stretch/>
        </p:blipFill>
        <p:spPr>
          <a:xfrm>
            <a:off x="53964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8281800" cy="6669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r-CS" sz="3600" spc="-1" strike="noStrike">
                <a:solidFill>
                  <a:srgbClr val="ffffff"/>
                </a:solidFill>
                <a:latin typeface="YUBaskerville"/>
              </a:rPr>
              <a:t>градја тестиса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везивно ткиво тестиса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tunica albugine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septula test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c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)mediastinumtestis(Highmore)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паренхим тестиса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obuli test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tubuli seminiferi contorti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tubuli seminiferi recti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c) ductuli efferentes test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rete testis (Haller)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interstitium testis (Leydi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548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ahoma"/>
              </a:rPr>
              <a:t>Testis 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/orchis/ (</a:t>
            </a:r>
            <a:r>
              <a:rPr b="0" lang="sr-CS" sz="4800" spc="-1" strike="noStrike">
                <a:solidFill>
                  <a:srgbClr val="ffffff"/>
                </a:solidFill>
                <a:latin typeface="YUBaskerville"/>
              </a:rPr>
              <a:t>семник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Graphic15"/>
          <p:cNvPicPr/>
          <p:nvPr/>
        </p:nvPicPr>
        <p:blipFill>
          <a:blip r:embed="rId2"/>
          <a:stretch/>
        </p:blipFill>
        <p:spPr>
          <a:xfrm>
            <a:off x="539640" y="630360"/>
            <a:ext cx="645948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548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ahoma"/>
              </a:rPr>
              <a:t>Testis 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/orchis/ (</a:t>
            </a:r>
            <a:r>
              <a:rPr b="0" lang="sr-CS" sz="4800" spc="-1" strike="noStrike">
                <a:solidFill>
                  <a:srgbClr val="ffffff"/>
                </a:solidFill>
                <a:latin typeface="YUBaskerville"/>
              </a:rPr>
              <a:t>семник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Graphic16"/>
          <p:cNvPicPr/>
          <p:nvPr/>
        </p:nvPicPr>
        <p:blipFill>
          <a:blip r:embed="rId2"/>
          <a:srcRect l="0" t="0" r="0" b="3945"/>
          <a:stretch/>
        </p:blipFill>
        <p:spPr>
          <a:xfrm>
            <a:off x="539640" y="785880"/>
            <a:ext cx="74613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356760"/>
            <a:ext cx="8781840" cy="6311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tunicae testis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YUBaskerville"/>
              </a:rPr>
              <a:t>омотачи тестис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) tunica vaginalis tes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eritoneum parie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p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vaginalis)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lamina visce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lamia pariet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esorchium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2) fascia spermatica intern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ascia transvers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3) m. cremaster et fascia cremasteric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. obliquus internus abdomin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) fascia spermatica extern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poneurosis m. obliqui externi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bdominis et fascia abdomi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ahoma"/>
              </a:rPr>
              <a:t>Organa genitalia masculina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4000" spc="-1" strike="noStrike">
                <a:solidFill>
                  <a:srgbClr val="ffffff"/>
                </a:solidFill>
                <a:latin typeface="YUBaskerville"/>
              </a:rPr>
              <a:t>полни органи мушкарца</a:t>
            </a: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Graphic13"/>
          <p:cNvPicPr/>
          <p:nvPr/>
        </p:nvPicPr>
        <p:blipFill>
          <a:blip r:embed="rId2"/>
          <a:stretch/>
        </p:blipFill>
        <p:spPr>
          <a:xfrm>
            <a:off x="1042920" y="1268280"/>
            <a:ext cx="5688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8710560" cy="6669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Epididymis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caput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obuli coni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ductulus efferens test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corpus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c) cauda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заједно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- ductus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Ductus deferens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семевод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)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1) pars epididymic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2) pars funicular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3) pars iliac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4) pars pelvic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2"/>
          <a:srcRect l="7788" t="0" r="37870" b="37746"/>
          <a:stretch/>
        </p:blipFill>
        <p:spPr>
          <a:xfrm>
            <a:off x="0" y="0"/>
            <a:ext cx="79167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0560" cy="6669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Funiculus spermaticus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YUBaskerville"/>
              </a:rPr>
              <a:t>семена врпц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):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ductus deferen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a. testicular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ars abdominalis aort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) a. cremasteric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. epigastrica inf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) a. ductus deferen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. iliaca intern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) plexus pampiniform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vv. testiculare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) r. genitalis n. genitofemo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) p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testicular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l. deferenti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) vasa lymphatic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n.l. lumbale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179280" y="0"/>
            <a:ext cx="762948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567640" cy="6441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7) </a:t>
            </a:r>
            <a:r>
              <a:rPr b="1" lang="sr-Latn-CS" sz="4000" spc="-1" strike="noStrike">
                <a:solidFill>
                  <a:srgbClr val="ffffff"/>
                </a:solidFill>
                <a:latin typeface="Tahoma"/>
              </a:rPr>
              <a:t>Prostata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естења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ча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1) basis prostatae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2) apex prostatae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3) facies anterior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 spatium retropubicum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4) facies posterior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fascia rectoprostati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eptum rectovesical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5) facies inferolaterales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- m. puboprostaticus 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(levator prostata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ahoma"/>
              </a:rPr>
              <a:t>Prostat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Graphic11"/>
          <p:cNvPicPr/>
          <p:nvPr/>
        </p:nvPicPr>
        <p:blipFill>
          <a:blip r:embed="rId2"/>
          <a:stretch/>
        </p:blipFill>
        <p:spPr>
          <a:xfrm>
            <a:off x="1187280" y="1268280"/>
            <a:ext cx="54738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710560" cy="6441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CS" sz="4400" spc="-1" strike="noStrike">
                <a:solidFill>
                  <a:srgbClr val="ffffff"/>
                </a:solidFill>
                <a:latin typeface="YUBaskerville"/>
              </a:rPr>
              <a:t>на свом проласку кроз простату</a:t>
            </a: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uctus ejaculatorius </a:t>
            </a:r>
            <a:r>
              <a:rPr b="0" lang="sr-CS" sz="4400" spc="-1" strike="noStrike">
                <a:solidFill>
                  <a:srgbClr val="ffffff"/>
                </a:solidFill>
                <a:latin typeface="YUBaskerville"/>
              </a:rPr>
              <a:t>је дели на режњеве</a:t>
            </a: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) lobus mediu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) lobus dexter et sinister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c) isthmus prostata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710560" cy="6441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pars prostatica urethr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ars intramu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ostium urethrae internum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patium profundum perinei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colliculus semin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utriculus prostaticu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ductus ejaculatorius dexter 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n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inus prostatic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ductuli prostatici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pars membranacea urethr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) pars spongiosa urethr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corpus spongiosu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curvatura subpub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ahoma"/>
              </a:rPr>
              <a:t>Pars prostatica urethra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Graphic10"/>
          <p:cNvPicPr/>
          <p:nvPr/>
        </p:nvPicPr>
        <p:blipFill>
          <a:blip r:embed="rId2"/>
          <a:stretch/>
        </p:blipFill>
        <p:spPr>
          <a:xfrm>
            <a:off x="1547640" y="1357200"/>
            <a:ext cx="46324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6858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Organa genitalia masculina externa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Penis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glans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ostium urethrae externum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corpus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c) radix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preputium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frenulum preputii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tela subcutanea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ig. fundiforme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fascia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ig. suspensorium pen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2"/>
          <a:srcRect l="7788" t="0" r="37870" b="37746"/>
          <a:stretch/>
        </p:blipFill>
        <p:spPr>
          <a:xfrm>
            <a:off x="0" y="0"/>
            <a:ext cx="79167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2"/>
          <a:srcRect l="7308" t="0" r="37537" b="38784"/>
          <a:stretch/>
        </p:blipFill>
        <p:spPr>
          <a:xfrm>
            <a:off x="-1440" y="0"/>
            <a:ext cx="802944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710560" cy="6630840"/>
          </a:xfrm>
          <a:prstGeom prst="rect">
            <a:avLst/>
          </a:prstGeom>
          <a:solidFill>
            <a:srgbClr val="7030a0"/>
          </a:solidFill>
          <a:ln w="9360">
            <a:solidFill>
              <a:srgbClr val="33ccc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YUBaskerville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YUBaskerville"/>
              </a:rPr>
              <a:t>еректилна тела пениса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) corpora cavernosa penis 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crura pen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) corpus spongiosum penis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glans pen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bulbus pen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tunica albugin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rcRect l="10298" t="0" r="40970" b="38391"/>
          <a:stretch/>
        </p:blipFill>
        <p:spPr>
          <a:xfrm>
            <a:off x="250920" y="115920"/>
            <a:ext cx="71006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rcRect l="10113" t="0" r="39715" b="42721"/>
          <a:stretch/>
        </p:blipFill>
        <p:spPr>
          <a:xfrm>
            <a:off x="250920" y="260280"/>
            <a:ext cx="730224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496000" cy="6630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Urethra masculina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(pars spongiosa):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glandulae urethrales (Littre)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) fossa navicular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valvula fossae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navicularis (Guerin)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) fossa bulbi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c) ostium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urethra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extern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2:09:13Z</dcterms:created>
  <dc:creator>Ucionica-6</dc:creator>
  <dc:description/>
  <dc:language>en-US</dc:language>
  <cp:lastModifiedBy>Anatomija 1</cp:lastModifiedBy>
  <dcterms:modified xsi:type="dcterms:W3CDTF">2011-09-02T06:37:05Z</dcterms:modified>
  <cp:revision>17</cp:revision>
  <dc:subject/>
  <dc:title>DIAPHRAGMA PELVIS. PERINEUM. FOSSA ISCHIO-ANALIS ET CANALIS PUDENDALIS. ORGANSKI I SUDOVNONERVNI PROSTOR. PODELA SUBPERITONEALNOG PROSTORA NA LOŽE. POLOŽAJ ORGANA U MUŠKOJ I ŽENSKOJ KARLICI. URETER (PARS PELVINA), VESICA URINARIA.</dc:title>
</cp:coreProperties>
</file>